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5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18.wmf" ContentType="image/x-wmf"/>
  <Override PartName="/ppt/media/image5.jpeg" ContentType="image/jpeg"/>
  <Override PartName="/ppt/media/image6.png" ContentType="image/png"/>
  <Override PartName="/ppt/media/image12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4274-CCBF-4C3A-B964-E49CB6BD157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043-245A-4AF5-A25D-52E26825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533-9E57-486B-8B61-3BC7DEF8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A021-BD37-44CB-A5EC-7FE1D578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EFD-0F0F-4C91-8525-871BFBED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3F4-305A-4DDE-A61D-30503DF8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889-FCDB-4CC4-A53B-B84CC7CE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81D-295C-4ED7-92FB-00CC8EFF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13C2-D5EC-449A-9FF2-6AF6B125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C3E9-7F45-404A-A88E-96D5D956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291F-1AEB-41D9-A57B-A2AE70C1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D0AF-C0FC-40BF-A3D4-E23FB967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B63-C2C5-4568-9052-38194BAE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C082-4E89-4F04-AF5F-B4431E8B8A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年级  高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1BU2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Rescuing the temple (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星期四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9:1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讲课教师   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赖丽燕  人民大学附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film ab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3080" y="3200400"/>
            <a:ext cx="5234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 is about the rescu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bu Simb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12952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3880" y="2133720"/>
            <a:ext cx="6172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was the temple mov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WHATNOW" descr=""/>
          <p:cNvPicPr/>
          <p:nvPr/>
        </p:nvPicPr>
        <p:blipFill>
          <a:blip r:embed="rId1"/>
          <a:stretch/>
        </p:blipFill>
        <p:spPr>
          <a:xfrm>
            <a:off x="6095880" y="2971800"/>
            <a:ext cx="1390680" cy="1981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3800" y="3124080"/>
            <a:ext cx="454536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temple was mov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tone by st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67880" y="497196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Para 1  Lin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600200" y="1066680"/>
            <a:ext cx="6019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Rounded MT Bold"/>
              </a:rPr>
              <a:t>The Rescue of  Abu  Simbel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209680"/>
            <a:ext cx="221004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bu_sim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43440" y="2362320"/>
            <a:ext cx="1994040" cy="2895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90720" y="2133720"/>
            <a:ext cx="4800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*move stone by st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*rebuild ab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*mark wi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*carry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Retell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 whole temple was moved stone by stone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and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built above the water level of the new lak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8380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tell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First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each stone was marked with a number. </a:t>
            </a:r>
            <a:r>
              <a:rPr b="1" i="1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And then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the pieces of stone were carried to the new place for the temple, 60 metres higher up the hil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BU-R2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24680" cy="526896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5105520" y="2514600"/>
            <a:ext cx="761760" cy="27432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2743200"/>
              <a:gd name="textAreaBottom" fmla="*/ 2693880 h 2743200"/>
            </a:gdLst>
            <a:ahLst/>
            <a:rect l="textAreaLeft" t="textAreaTop" r="textAreaRight" b="textAreaBottom"/>
            <a:pathLst>
              <a:path w="21600" h="77758">
                <a:moveTo>
                  <a:pt x="0" y="0"/>
                </a:moveTo>
                <a:lnTo>
                  <a:pt x="21600" y="0"/>
                </a:lnTo>
                <a:lnTo>
                  <a:pt x="21600" y="77758"/>
                </a:lnTo>
                <a:lnTo>
                  <a:pt x="0" y="77758"/>
                </a:lnTo>
                <a:close/>
              </a:path>
              <a:path fill="lightenLess" w="21600" h="777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7758">
                <a:moveTo>
                  <a:pt x="21600" y="0"/>
                </a:moveTo>
                <a:lnTo>
                  <a:pt x="21600" y="77758"/>
                </a:lnTo>
                <a:lnTo>
                  <a:pt x="20200" y="76358"/>
                </a:lnTo>
                <a:lnTo>
                  <a:pt x="20200" y="1400"/>
                </a:lnTo>
                <a:close/>
              </a:path>
              <a:path fill="darkenLess" w="21600" h="77758">
                <a:moveTo>
                  <a:pt x="21600" y="77758"/>
                </a:moveTo>
                <a:lnTo>
                  <a:pt x="0" y="77758"/>
                </a:lnTo>
                <a:lnTo>
                  <a:pt x="1400" y="76358"/>
                </a:lnTo>
                <a:lnTo>
                  <a:pt x="20200" y="76358"/>
                </a:lnTo>
                <a:close/>
              </a:path>
              <a:path fill="lighten" w="21600" h="77758">
                <a:moveTo>
                  <a:pt x="0" y="77758"/>
                </a:moveTo>
                <a:lnTo>
                  <a:pt x="0" y="0"/>
                </a:lnTo>
                <a:lnTo>
                  <a:pt x="1400" y="1400"/>
                </a:lnTo>
                <a:lnTo>
                  <a:pt x="1400" y="763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27560" y="49942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4223t013" descr=""/>
          <p:cNvPicPr/>
          <p:nvPr/>
        </p:nvPicPr>
        <p:blipFill>
          <a:blip r:embed="rId1"/>
          <a:srcRect l="0" t="0" r="0" b="5554"/>
          <a:stretch/>
        </p:blipFill>
        <p:spPr>
          <a:xfrm>
            <a:off x="1371600" y="45720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4724280" y="1371600"/>
            <a:ext cx="1143000" cy="4572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4572000"/>
              <a:gd name="textAreaBottom" fmla="*/ 4498200 h 4572000"/>
            </a:gdLst>
            <a:ahLst/>
            <a:rect l="textAreaLeft" t="textAreaTop" r="textAreaRight" b="textAreaBottom"/>
            <a:pathLst>
              <a:path w="21600" h="86380">
                <a:moveTo>
                  <a:pt x="0" y="0"/>
                </a:moveTo>
                <a:lnTo>
                  <a:pt x="21600" y="0"/>
                </a:lnTo>
                <a:lnTo>
                  <a:pt x="21600" y="86380"/>
                </a:lnTo>
                <a:lnTo>
                  <a:pt x="0" y="86380"/>
                </a:lnTo>
                <a:close/>
              </a:path>
              <a:path fill="lightenLess" w="21600" h="863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86380">
                <a:moveTo>
                  <a:pt x="21600" y="0"/>
                </a:moveTo>
                <a:lnTo>
                  <a:pt x="21600" y="86380"/>
                </a:lnTo>
                <a:lnTo>
                  <a:pt x="20200" y="84980"/>
                </a:lnTo>
                <a:lnTo>
                  <a:pt x="20200" y="1400"/>
                </a:lnTo>
                <a:close/>
              </a:path>
              <a:path fill="darkenLess" w="21600" h="86380">
                <a:moveTo>
                  <a:pt x="21600" y="86380"/>
                </a:moveTo>
                <a:lnTo>
                  <a:pt x="0" y="86380"/>
                </a:lnTo>
                <a:lnTo>
                  <a:pt x="1400" y="84980"/>
                </a:lnTo>
                <a:lnTo>
                  <a:pt x="20200" y="84980"/>
                </a:lnTo>
                <a:close/>
              </a:path>
              <a:path fill="lighten" w="21600" h="86380">
                <a:moveTo>
                  <a:pt x="0" y="86380"/>
                </a:moveTo>
                <a:lnTo>
                  <a:pt x="0" y="0"/>
                </a:lnTo>
                <a:lnTo>
                  <a:pt x="1400" y="1400"/>
                </a:lnTo>
                <a:lnTo>
                  <a:pt x="1400" y="8498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518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5334120"/>
            <a:ext cx="609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ut into pieces, mark with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ut…into, mark…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u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e figur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pie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rk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each ston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10014601" descr=""/>
          <p:cNvPicPr/>
          <p:nvPr/>
        </p:nvPicPr>
        <p:blipFill>
          <a:blip r:embed="rId1"/>
          <a:stretch/>
        </p:blipFill>
        <p:spPr>
          <a:xfrm>
            <a:off x="2354400" y="533520"/>
            <a:ext cx="5046480" cy="510516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3505320" y="1676520"/>
            <a:ext cx="685800" cy="304776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3047760"/>
              <a:gd name="textAreaBottom" fmla="*/ 3003480 h 3047760"/>
            </a:gdLst>
            <a:ahLst/>
            <a:rect l="textAreaLeft" t="textAreaTop" r="textAreaRight" b="textAreaBottom"/>
            <a:pathLst>
              <a:path w="21600" h="95953">
                <a:moveTo>
                  <a:pt x="0" y="0"/>
                </a:moveTo>
                <a:lnTo>
                  <a:pt x="21600" y="0"/>
                </a:lnTo>
                <a:lnTo>
                  <a:pt x="21600" y="95953"/>
                </a:lnTo>
                <a:lnTo>
                  <a:pt x="0" y="95953"/>
                </a:lnTo>
                <a:close/>
              </a:path>
              <a:path fill="lightenLess" w="21600" h="95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95953">
                <a:moveTo>
                  <a:pt x="21600" y="0"/>
                </a:moveTo>
                <a:lnTo>
                  <a:pt x="21600" y="95953"/>
                </a:lnTo>
                <a:lnTo>
                  <a:pt x="20200" y="94553"/>
                </a:lnTo>
                <a:lnTo>
                  <a:pt x="20200" y="1400"/>
                </a:lnTo>
                <a:close/>
              </a:path>
              <a:path fill="darkenLess" w="21600" h="95953">
                <a:moveTo>
                  <a:pt x="21600" y="95953"/>
                </a:moveTo>
                <a:lnTo>
                  <a:pt x="0" y="95953"/>
                </a:lnTo>
                <a:lnTo>
                  <a:pt x="1400" y="94553"/>
                </a:lnTo>
                <a:lnTo>
                  <a:pt x="20200" y="94553"/>
                </a:lnTo>
                <a:close/>
              </a:path>
              <a:path fill="lighten" w="21600" h="95953">
                <a:moveTo>
                  <a:pt x="0" y="95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9455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6068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571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rry to,    put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rry to,    put togeth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2361960"/>
            <a:ext cx="62485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ieces of stone wer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rried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e new place for the templ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ut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tone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geth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egypt_back" descr=""/>
          <p:cNvPicPr/>
          <p:nvPr/>
        </p:nvPicPr>
        <p:blipFill>
          <a:blip r:embed="rId1"/>
          <a:stretch/>
        </p:blipFill>
        <p:spPr>
          <a:xfrm>
            <a:off x="3124080" y="3162240"/>
            <a:ext cx="3162600" cy="3695760"/>
          </a:xfrm>
          <a:prstGeom prst="rect">
            <a:avLst/>
          </a:prstGeom>
          <a:ln w="0">
            <a:noFill/>
          </a:ln>
        </p:spPr>
      </p:pic>
      <p:pic>
        <p:nvPicPr>
          <p:cNvPr id="51" name="egypt_back" descr=""/>
          <p:cNvPicPr/>
          <p:nvPr/>
        </p:nvPicPr>
        <p:blipFill>
          <a:blip r:embed="rId2"/>
          <a:stretch/>
        </p:blipFill>
        <p:spPr>
          <a:xfrm>
            <a:off x="3124080" y="0"/>
            <a:ext cx="3162600" cy="3695760"/>
          </a:xfrm>
          <a:prstGeom prst="rect">
            <a:avLst/>
          </a:prstGeom>
          <a:ln w="0">
            <a:noFill/>
          </a:ln>
        </p:spPr>
      </p:pic>
      <p:pic>
        <p:nvPicPr>
          <p:cNvPr id="52" name="egypt_back" descr=""/>
          <p:cNvPicPr/>
          <p:nvPr/>
        </p:nvPicPr>
        <p:blipFill>
          <a:blip r:embed="rId3"/>
          <a:stretch/>
        </p:blipFill>
        <p:spPr>
          <a:xfrm>
            <a:off x="0" y="3162240"/>
            <a:ext cx="3162240" cy="3695760"/>
          </a:xfrm>
          <a:prstGeom prst="rect">
            <a:avLst/>
          </a:prstGeom>
          <a:ln w="0">
            <a:noFill/>
          </a:ln>
        </p:spPr>
      </p:pic>
      <p:pic>
        <p:nvPicPr>
          <p:cNvPr id="53" name="egypt_back" descr=""/>
          <p:cNvPicPr/>
          <p:nvPr/>
        </p:nvPicPr>
        <p:blipFill>
          <a:blip r:embed="rId4"/>
          <a:stretch/>
        </p:blipFill>
        <p:spPr>
          <a:xfrm>
            <a:off x="0" y="0"/>
            <a:ext cx="3162240" cy="3695760"/>
          </a:xfrm>
          <a:prstGeom prst="rect">
            <a:avLst/>
          </a:prstGeom>
          <a:ln w="0">
            <a:noFill/>
          </a:ln>
        </p:spPr>
      </p:pic>
      <p:pic>
        <p:nvPicPr>
          <p:cNvPr id="54" name="egypt_back" descr=""/>
          <p:cNvPicPr/>
          <p:nvPr/>
        </p:nvPicPr>
        <p:blipFill>
          <a:blip r:embed="rId5"/>
          <a:stretch/>
        </p:blipFill>
        <p:spPr>
          <a:xfrm>
            <a:off x="5981760" y="3162240"/>
            <a:ext cx="3162240" cy="3695760"/>
          </a:xfrm>
          <a:prstGeom prst="rect">
            <a:avLst/>
          </a:prstGeom>
          <a:ln w="0">
            <a:noFill/>
          </a:ln>
        </p:spPr>
      </p:pic>
      <p:pic>
        <p:nvPicPr>
          <p:cNvPr id="55" name="egypt_back" descr=""/>
          <p:cNvPicPr/>
          <p:nvPr/>
        </p:nvPicPr>
        <p:blipFill>
          <a:blip r:embed="rId6"/>
          <a:stretch/>
        </p:blipFill>
        <p:spPr>
          <a:xfrm>
            <a:off x="5981760" y="0"/>
            <a:ext cx="3162240" cy="3695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676520" y="2438280"/>
            <a:ext cx="5867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00066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Garamond"/>
              </a:rPr>
              <a:t>Unit 23 Rescuing the temple</a:t>
            </a:r>
            <a:endParaRPr b="1" lang="en-US" sz="8000" spc="1" strike="noStrike">
              <a:ln w="19080">
                <a:solidFill>
                  <a:srgbClr val="000099"/>
                </a:solidFill>
                <a:miter/>
              </a:ln>
              <a:solidFill>
                <a:srgbClr val="000066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57" name=""/>
          <p:cNvSpPr/>
          <p:nvPr/>
        </p:nvSpPr>
        <p:spPr>
          <a:xfrm>
            <a:off x="3641760" y="4211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BU-R2" descr=""/>
          <p:cNvPicPr/>
          <p:nvPr/>
        </p:nvPicPr>
        <p:blipFill>
          <a:blip r:embed="rId1"/>
          <a:stretch/>
        </p:blipFill>
        <p:spPr>
          <a:xfrm>
            <a:off x="1143000" y="750960"/>
            <a:ext cx="7024680" cy="5268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79440" y="558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5943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bui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bui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26668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is way, this figure wa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buil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ABU-R3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476760" cy="4857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505320" y="1447920"/>
            <a:ext cx="32004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 was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he whole tem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ABU-R2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24680" cy="526896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5105520" y="2514600"/>
            <a:ext cx="761760" cy="27432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2743200"/>
              <a:gd name="textAreaBottom" fmla="*/ 2693880 h 2743200"/>
            </a:gdLst>
            <a:ahLst/>
            <a:rect l="textAreaLeft" t="textAreaTop" r="textAreaRight" b="textAreaBottom"/>
            <a:pathLst>
              <a:path w="21600" h="77758">
                <a:moveTo>
                  <a:pt x="0" y="0"/>
                </a:moveTo>
                <a:lnTo>
                  <a:pt x="21600" y="0"/>
                </a:lnTo>
                <a:lnTo>
                  <a:pt x="21600" y="77758"/>
                </a:lnTo>
                <a:lnTo>
                  <a:pt x="0" y="77758"/>
                </a:lnTo>
                <a:close/>
              </a:path>
              <a:path fill="lightenLess" w="21600" h="777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7758">
                <a:moveTo>
                  <a:pt x="21600" y="0"/>
                </a:moveTo>
                <a:lnTo>
                  <a:pt x="21600" y="77758"/>
                </a:lnTo>
                <a:lnTo>
                  <a:pt x="20200" y="76358"/>
                </a:lnTo>
                <a:lnTo>
                  <a:pt x="20200" y="1400"/>
                </a:lnTo>
                <a:close/>
              </a:path>
              <a:path fill="darkenLess" w="21600" h="77758">
                <a:moveTo>
                  <a:pt x="21600" y="77758"/>
                </a:moveTo>
                <a:lnTo>
                  <a:pt x="0" y="77758"/>
                </a:lnTo>
                <a:lnTo>
                  <a:pt x="1400" y="76358"/>
                </a:lnTo>
                <a:lnTo>
                  <a:pt x="20200" y="76358"/>
                </a:lnTo>
                <a:close/>
              </a:path>
              <a:path fill="lighten" w="21600" h="77758">
                <a:moveTo>
                  <a:pt x="0" y="77758"/>
                </a:moveTo>
                <a:lnTo>
                  <a:pt x="0" y="0"/>
                </a:lnTo>
                <a:lnTo>
                  <a:pt x="1400" y="1400"/>
                </a:lnTo>
                <a:lnTo>
                  <a:pt x="1400" y="763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4223t013" descr=""/>
          <p:cNvPicPr/>
          <p:nvPr/>
        </p:nvPicPr>
        <p:blipFill>
          <a:blip r:embed="rId1"/>
          <a:srcRect l="0" t="0" r="0" b="5554"/>
          <a:stretch/>
        </p:blipFill>
        <p:spPr>
          <a:xfrm>
            <a:off x="1600200" y="1028880"/>
            <a:ext cx="6172200" cy="462888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4724280" y="1371600"/>
            <a:ext cx="1143000" cy="4572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4572000"/>
              <a:gd name="textAreaBottom" fmla="*/ 4498200 h 4572000"/>
            </a:gdLst>
            <a:ahLst/>
            <a:rect l="textAreaLeft" t="textAreaTop" r="textAreaRight" b="textAreaBottom"/>
            <a:pathLst>
              <a:path w="21600" h="86380">
                <a:moveTo>
                  <a:pt x="0" y="0"/>
                </a:moveTo>
                <a:lnTo>
                  <a:pt x="21600" y="0"/>
                </a:lnTo>
                <a:lnTo>
                  <a:pt x="21600" y="86380"/>
                </a:lnTo>
                <a:lnTo>
                  <a:pt x="0" y="86380"/>
                </a:lnTo>
                <a:close/>
              </a:path>
              <a:path fill="lightenLess" w="21600" h="863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86380">
                <a:moveTo>
                  <a:pt x="21600" y="0"/>
                </a:moveTo>
                <a:lnTo>
                  <a:pt x="21600" y="86380"/>
                </a:lnTo>
                <a:lnTo>
                  <a:pt x="20200" y="84980"/>
                </a:lnTo>
                <a:lnTo>
                  <a:pt x="20200" y="1400"/>
                </a:lnTo>
                <a:close/>
              </a:path>
              <a:path fill="darkenLess" w="21600" h="86380">
                <a:moveTo>
                  <a:pt x="21600" y="86380"/>
                </a:moveTo>
                <a:lnTo>
                  <a:pt x="0" y="86380"/>
                </a:lnTo>
                <a:lnTo>
                  <a:pt x="1400" y="84980"/>
                </a:lnTo>
                <a:lnTo>
                  <a:pt x="20200" y="84980"/>
                </a:lnTo>
                <a:close/>
              </a:path>
              <a:path fill="lighten" w="21600" h="86380">
                <a:moveTo>
                  <a:pt x="0" y="86380"/>
                </a:moveTo>
                <a:lnTo>
                  <a:pt x="0" y="0"/>
                </a:lnTo>
                <a:lnTo>
                  <a:pt x="1400" y="1400"/>
                </a:lnTo>
                <a:lnTo>
                  <a:pt x="1400" y="8498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81480" y="5638680"/>
            <a:ext cx="598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ut into pieces, mark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10014601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4895640" cy="495324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2743200" y="1600200"/>
            <a:ext cx="1219320" cy="44197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4419720"/>
              <a:gd name="textAreaBottom" fmla="*/ 4340880 h 4419720"/>
            </a:gdLst>
            <a:ahLst/>
            <a:rect l="textAreaLeft" t="textAreaTop" r="textAreaRight" b="textAreaBottom"/>
            <a:pathLst>
              <a:path w="21600" h="78278">
                <a:moveTo>
                  <a:pt x="0" y="0"/>
                </a:moveTo>
                <a:lnTo>
                  <a:pt x="21600" y="0"/>
                </a:lnTo>
                <a:lnTo>
                  <a:pt x="21600" y="78278"/>
                </a:lnTo>
                <a:lnTo>
                  <a:pt x="0" y="78278"/>
                </a:lnTo>
                <a:close/>
              </a:path>
              <a:path fill="lightenLess" w="21600" h="782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8278">
                <a:moveTo>
                  <a:pt x="21600" y="0"/>
                </a:moveTo>
                <a:lnTo>
                  <a:pt x="21600" y="78278"/>
                </a:lnTo>
                <a:lnTo>
                  <a:pt x="20200" y="76878"/>
                </a:lnTo>
                <a:lnTo>
                  <a:pt x="20200" y="1400"/>
                </a:lnTo>
                <a:close/>
              </a:path>
              <a:path fill="darkenLess" w="21600" h="78278">
                <a:moveTo>
                  <a:pt x="21600" y="78278"/>
                </a:moveTo>
                <a:lnTo>
                  <a:pt x="0" y="78278"/>
                </a:lnTo>
                <a:lnTo>
                  <a:pt x="1400" y="76878"/>
                </a:lnTo>
                <a:lnTo>
                  <a:pt x="20200" y="76878"/>
                </a:lnTo>
                <a:close/>
              </a:path>
              <a:path fill="lighten" w="21600" h="78278">
                <a:moveTo>
                  <a:pt x="0" y="78278"/>
                </a:moveTo>
                <a:lnTo>
                  <a:pt x="0" y="0"/>
                </a:lnTo>
                <a:lnTo>
                  <a:pt x="1400" y="1400"/>
                </a:lnTo>
                <a:lnTo>
                  <a:pt x="1400" y="7687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15440" y="5607000"/>
            <a:ext cx="47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rry to,    put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ABU-R2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796080" cy="5097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38280" y="5638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bu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ABU-R3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505320" y="1447920"/>
            <a:ext cx="32004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1531440" y="5486400"/>
            <a:ext cx="22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o was 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1930320"/>
            <a:ext cx="678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 can we get to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can we see the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it right to rescue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8380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BU-R3" descr=""/>
          <p:cNvPicPr/>
          <p:nvPr/>
        </p:nvPicPr>
        <p:blipFill>
          <a:blip r:embed="rId1"/>
          <a:stretch/>
        </p:blipFill>
        <p:spPr>
          <a:xfrm>
            <a:off x="1219320" y="885960"/>
            <a:ext cx="6673680" cy="5005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809880" y="1295280"/>
            <a:ext cx="241308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237492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 can we get to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330192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e can either fly to Abu Simb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or take a boat from across the l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115560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69440" y="513540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Para 3  Lin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216216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can we see the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6760" y="3378240"/>
            <a:ext cx="492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can see the tall st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figu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8380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69440" y="513540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Para 3  Lin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214632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it right to rescue the tem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2720" y="3505320"/>
            <a:ext cx="54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es. It is right to rescue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em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10666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69440" y="513540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Para 3  Lin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71600" y="1763640"/>
            <a:ext cx="6781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 did you get to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did you see the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it right to rescue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1360" y="2392200"/>
            <a:ext cx="22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take a bo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5760" y="391644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the tall stone figu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4600" y="49528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y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8380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24382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e visited the temple at Ab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Simbel the other d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71600" y="1763640"/>
            <a:ext cx="6781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 did you get to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did you see the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it right to rescue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1360" y="2392200"/>
            <a:ext cx="22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take a bo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5760" y="391644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the tall stone figu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4600" y="49528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y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8380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Write a short passag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possible ver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 visited the temple at Abu Simbel the other d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ook a boat from across the lak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r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by the wa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of the new lak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 cou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see the tall stone figures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possible ver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place was quiet and ver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ery beautiful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think 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right that the temple shou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be rescue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9526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Bellows%20Gorge" descr=""/>
          <p:cNvPicPr/>
          <p:nvPr/>
        </p:nvPicPr>
        <p:blipFill>
          <a:blip r:embed="rId1"/>
          <a:stretch/>
        </p:blipFill>
        <p:spPr>
          <a:xfrm>
            <a:off x="1066680" y="936720"/>
            <a:ext cx="71629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95264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Wu%20Gorge" descr=""/>
          <p:cNvPicPr/>
          <p:nvPr/>
        </p:nvPicPr>
        <p:blipFill>
          <a:blip r:embed="rId1"/>
          <a:stretch/>
        </p:blipFill>
        <p:spPr>
          <a:xfrm>
            <a:off x="990720" y="1052640"/>
            <a:ext cx="71625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BU-R2" descr=""/>
          <p:cNvPicPr/>
          <p:nvPr/>
        </p:nvPicPr>
        <p:blipFill>
          <a:blip r:embed="rId1"/>
          <a:stretch/>
        </p:blipFill>
        <p:spPr>
          <a:xfrm>
            <a:off x="1143000" y="750960"/>
            <a:ext cx="7024680" cy="526896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4419720" y="4191120"/>
            <a:ext cx="384120" cy="10555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1055520"/>
              <a:gd name="textAreaBottom" fmla="*/ 1030680 h 1055520"/>
            </a:gdLst>
            <a:ahLst/>
            <a:rect l="textAreaLeft" t="textAreaTop" r="textAreaRight" b="textAreaBottom"/>
            <a:pathLst>
              <a:path w="21600" h="59319">
                <a:moveTo>
                  <a:pt x="0" y="0"/>
                </a:moveTo>
                <a:lnTo>
                  <a:pt x="21600" y="0"/>
                </a:lnTo>
                <a:lnTo>
                  <a:pt x="21600" y="59319"/>
                </a:lnTo>
                <a:lnTo>
                  <a:pt x="0" y="59319"/>
                </a:lnTo>
                <a:close/>
              </a:path>
              <a:path fill="lightenLess" w="21600" h="593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9319">
                <a:moveTo>
                  <a:pt x="21600" y="0"/>
                </a:moveTo>
                <a:lnTo>
                  <a:pt x="21600" y="59319"/>
                </a:lnTo>
                <a:lnTo>
                  <a:pt x="20200" y="57919"/>
                </a:lnTo>
                <a:lnTo>
                  <a:pt x="20200" y="1400"/>
                </a:lnTo>
                <a:close/>
              </a:path>
              <a:path fill="darkenLess" w="21600" h="59319">
                <a:moveTo>
                  <a:pt x="21600" y="59319"/>
                </a:moveTo>
                <a:lnTo>
                  <a:pt x="0" y="59319"/>
                </a:lnTo>
                <a:lnTo>
                  <a:pt x="1400" y="57919"/>
                </a:lnTo>
                <a:lnTo>
                  <a:pt x="20200" y="57919"/>
                </a:lnTo>
                <a:close/>
              </a:path>
              <a:path fill="lighten" w="21600" h="59319">
                <a:moveTo>
                  <a:pt x="0" y="59319"/>
                </a:moveTo>
                <a:lnTo>
                  <a:pt x="0" y="0"/>
                </a:lnTo>
                <a:lnTo>
                  <a:pt x="1400" y="1400"/>
                </a:lnTo>
                <a:lnTo>
                  <a:pt x="1400" y="579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2514600"/>
            <a:ext cx="761760" cy="27432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2743200"/>
              <a:gd name="textAreaBottom" fmla="*/ 2693880 h 2743200"/>
            </a:gdLst>
            <a:ahLst/>
            <a:rect l="textAreaLeft" t="textAreaTop" r="textAreaRight" b="textAreaBottom"/>
            <a:pathLst>
              <a:path w="21600" h="77758">
                <a:moveTo>
                  <a:pt x="0" y="0"/>
                </a:moveTo>
                <a:lnTo>
                  <a:pt x="21600" y="0"/>
                </a:lnTo>
                <a:lnTo>
                  <a:pt x="21600" y="77758"/>
                </a:lnTo>
                <a:lnTo>
                  <a:pt x="0" y="77758"/>
                </a:lnTo>
                <a:close/>
              </a:path>
              <a:path fill="lightenLess" w="21600" h="777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7758">
                <a:moveTo>
                  <a:pt x="21600" y="0"/>
                </a:moveTo>
                <a:lnTo>
                  <a:pt x="21600" y="77758"/>
                </a:lnTo>
                <a:lnTo>
                  <a:pt x="20200" y="76358"/>
                </a:lnTo>
                <a:lnTo>
                  <a:pt x="20200" y="1400"/>
                </a:lnTo>
                <a:close/>
              </a:path>
              <a:path fill="darkenLess" w="21600" h="77758">
                <a:moveTo>
                  <a:pt x="21600" y="77758"/>
                </a:moveTo>
                <a:lnTo>
                  <a:pt x="0" y="77758"/>
                </a:lnTo>
                <a:lnTo>
                  <a:pt x="1400" y="76358"/>
                </a:lnTo>
                <a:lnTo>
                  <a:pt x="20200" y="76358"/>
                </a:lnTo>
                <a:close/>
              </a:path>
              <a:path fill="lighten" w="21600" h="77758">
                <a:moveTo>
                  <a:pt x="0" y="77758"/>
                </a:moveTo>
                <a:lnTo>
                  <a:pt x="0" y="0"/>
                </a:lnTo>
                <a:lnTo>
                  <a:pt x="1400" y="1400"/>
                </a:lnTo>
                <a:lnTo>
                  <a:pt x="1400" y="763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9526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Xiling%20Gorge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4419720" y="3886200"/>
            <a:ext cx="685800" cy="14479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1447920"/>
              <a:gd name="textAreaBottom" fmla="*/ 1403640 h 1447920"/>
            </a:gdLst>
            <a:ahLst/>
            <a:rect l="textAreaLeft" t="textAreaTop" r="textAreaRight" b="textAreaBottom"/>
            <a:pathLst>
              <a:path w="21600" h="45591">
                <a:moveTo>
                  <a:pt x="0" y="0"/>
                </a:moveTo>
                <a:lnTo>
                  <a:pt x="21600" y="0"/>
                </a:lnTo>
                <a:lnTo>
                  <a:pt x="21600" y="45591"/>
                </a:lnTo>
                <a:lnTo>
                  <a:pt x="0" y="45591"/>
                </a:lnTo>
                <a:close/>
              </a:path>
              <a:path fill="lightenLess" w="21600" h="455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5591">
                <a:moveTo>
                  <a:pt x="21600" y="0"/>
                </a:moveTo>
                <a:lnTo>
                  <a:pt x="21600" y="45591"/>
                </a:lnTo>
                <a:lnTo>
                  <a:pt x="20200" y="44191"/>
                </a:lnTo>
                <a:lnTo>
                  <a:pt x="20200" y="1400"/>
                </a:lnTo>
                <a:close/>
              </a:path>
              <a:path fill="darkenLess" w="21600" h="45591">
                <a:moveTo>
                  <a:pt x="21600" y="45591"/>
                </a:moveTo>
                <a:lnTo>
                  <a:pt x="0" y="45591"/>
                </a:lnTo>
                <a:lnTo>
                  <a:pt x="1400" y="44191"/>
                </a:lnTo>
                <a:lnTo>
                  <a:pt x="20200" y="44191"/>
                </a:lnTo>
                <a:close/>
              </a:path>
              <a:path fill="lighten" w="21600" h="45591">
                <a:moveTo>
                  <a:pt x="0" y="45591"/>
                </a:moveTo>
                <a:lnTo>
                  <a:pt x="0" y="0"/>
                </a:lnTo>
                <a:lnTo>
                  <a:pt x="1400" y="1400"/>
                </a:lnTo>
                <a:lnTo>
                  <a:pt x="1400" y="441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343400" y="3733920"/>
            <a:ext cx="1042920" cy="1752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752480"/>
              <a:gd name="textAreaBottom" fmla="*/ 1685160 h 1752480"/>
            </a:gdLst>
            <a:ahLst/>
            <a:rect l="textAreaLeft" t="textAreaTop" r="textAreaRight" b="textAreaBottom"/>
            <a:pathLst>
              <a:path w="21600" h="36291">
                <a:moveTo>
                  <a:pt x="0" y="0"/>
                </a:moveTo>
                <a:lnTo>
                  <a:pt x="21600" y="0"/>
                </a:lnTo>
                <a:lnTo>
                  <a:pt x="21600" y="36291"/>
                </a:lnTo>
                <a:lnTo>
                  <a:pt x="0" y="36291"/>
                </a:lnTo>
                <a:close/>
              </a:path>
              <a:path fill="lightenLess" w="21600" h="362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291">
                <a:moveTo>
                  <a:pt x="21600" y="0"/>
                </a:moveTo>
                <a:lnTo>
                  <a:pt x="21600" y="36291"/>
                </a:lnTo>
                <a:lnTo>
                  <a:pt x="20200" y="34891"/>
                </a:lnTo>
                <a:lnTo>
                  <a:pt x="20200" y="1400"/>
                </a:lnTo>
                <a:close/>
              </a:path>
              <a:path fill="darkenLess" w="21600" h="36291">
                <a:moveTo>
                  <a:pt x="21600" y="36291"/>
                </a:moveTo>
                <a:lnTo>
                  <a:pt x="0" y="36291"/>
                </a:lnTo>
                <a:lnTo>
                  <a:pt x="1400" y="34891"/>
                </a:lnTo>
                <a:lnTo>
                  <a:pt x="20200" y="34891"/>
                </a:lnTo>
                <a:close/>
              </a:path>
              <a:path fill="lighten" w="21600" h="36291">
                <a:moveTo>
                  <a:pt x="0" y="3629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8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9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threegorgesdam" descr=""/>
          <p:cNvPicPr/>
          <p:nvPr/>
        </p:nvPicPr>
        <p:blipFill>
          <a:blip r:embed="rId1"/>
          <a:stretch/>
        </p:blipFill>
        <p:spPr>
          <a:xfrm>
            <a:off x="1219320" y="801720"/>
            <a:ext cx="6858000" cy="514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0880" y="914400"/>
            <a:ext cx="84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57400" y="1600200"/>
          <a:ext cx="4876920" cy="4438800"/>
        </p:xfrm>
        <a:graphic>
          <a:graphicData uri="http://schemas.openxmlformats.org/drawingml/2006/table">
            <a:tbl>
              <a:tblPr/>
              <a:tblGrid>
                <a:gridCol w="2297160"/>
                <a:gridCol w="257976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xia D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057400" y="882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Fill in the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905120" y="1581120"/>
            <a:ext cx="541008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Yangtze is the longest river in China and the third longest in the world after the Amazon in South Amer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d the Nile 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rica.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BS00559_" descr=""/>
          <p:cNvPicPr/>
          <p:nvPr/>
        </p:nvPicPr>
        <p:blipFill>
          <a:blip r:embed="rId1"/>
          <a:stretch/>
        </p:blipFill>
        <p:spPr>
          <a:xfrm>
            <a:off x="5105520" y="4495680"/>
            <a:ext cx="2286000" cy="1449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74160" y="838080"/>
            <a:ext cx="46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83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1693800"/>
            <a:ext cx="70866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ever, the Yangtze River floods every year, causing great loss of lives and millions of dollars. Therefore the government decided to build the dam to control the wa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BS00559_" descr=""/>
          <p:cNvPicPr/>
          <p:nvPr/>
        </p:nvPicPr>
        <p:blipFill>
          <a:blip r:embed="rId1"/>
          <a:stretch/>
        </p:blipFill>
        <p:spPr>
          <a:xfrm>
            <a:off x="6095880" y="4800600"/>
            <a:ext cx="1676520" cy="609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226520" y="838080"/>
            <a:ext cx="47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1500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1905120"/>
            <a:ext cx="601956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hree Gorges will be the biggest dam in the world. The dam will be about 6,860 feet wide and 611 feet high. It is obvious that such a big project will do much goo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45560" y="1035000"/>
            <a:ext cx="46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BS00559_" descr=""/>
          <p:cNvPicPr/>
          <p:nvPr/>
        </p:nvPicPr>
        <p:blipFill>
          <a:blip r:embed="rId1"/>
          <a:stretch/>
        </p:blipFill>
        <p:spPr>
          <a:xfrm>
            <a:off x="6934320" y="4952880"/>
            <a:ext cx="685800" cy="668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162920" y="4648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36640" y="1523880"/>
            <a:ext cx="588348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important is flood control, and another purpose of the dam is to produce electricity for Eastern and Cent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BS00559_" descr=""/>
          <p:cNvPicPr/>
          <p:nvPr/>
        </p:nvPicPr>
        <p:blipFill>
          <a:blip r:embed="rId1"/>
          <a:stretch/>
        </p:blipFill>
        <p:spPr>
          <a:xfrm>
            <a:off x="5105520" y="5105520"/>
            <a:ext cx="1904760" cy="761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760040" y="838080"/>
            <a:ext cx="47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419720" y="5334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30360" y="1447920"/>
            <a:ext cx="685152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ever, some scientists don't agree to the project. They say that many people will be removed, which of course will cost much money, and some historical sites will b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69240" y="806400"/>
            <a:ext cx="46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BS00559_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1447920" cy="990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4100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84800" y="1731960"/>
            <a:ext cx="5589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Three Gorges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uld be considered, wh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 is finished in 2009,  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ighth wonder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worl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BS00559_" descr=""/>
          <p:cNvPicPr/>
          <p:nvPr/>
        </p:nvPicPr>
        <p:blipFill>
          <a:blip r:embed="rId1"/>
          <a:stretch/>
        </p:blipFill>
        <p:spPr>
          <a:xfrm>
            <a:off x="5181480" y="4691160"/>
            <a:ext cx="1905120" cy="1081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721520" y="1035000"/>
            <a:ext cx="46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5334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5120" y="1581120"/>
            <a:ext cx="541008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Yangtze is the longest river in China and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third longes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in the world after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Amaz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in South Amer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d the Nile 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rica.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BS00559_" descr=""/>
          <p:cNvPicPr/>
          <p:nvPr/>
        </p:nvPicPr>
        <p:blipFill>
          <a:blip r:embed="rId1"/>
          <a:stretch/>
        </p:blipFill>
        <p:spPr>
          <a:xfrm>
            <a:off x="5105520" y="4495680"/>
            <a:ext cx="2286000" cy="1449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906560" y="9586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4419720" y="3505320"/>
            <a:ext cx="533160" cy="14475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447560"/>
              <a:gd name="textAreaBottom" fmla="*/ 1413000 h 1447560"/>
            </a:gdLst>
            <a:ahLst/>
            <a:rect l="textAreaLeft" t="textAreaTop" r="textAreaRight" b="textAreaBottom"/>
            <a:pathLst>
              <a:path w="21600" h="58620">
                <a:moveTo>
                  <a:pt x="0" y="0"/>
                </a:moveTo>
                <a:lnTo>
                  <a:pt x="21600" y="0"/>
                </a:lnTo>
                <a:lnTo>
                  <a:pt x="21600" y="58620"/>
                </a:lnTo>
                <a:lnTo>
                  <a:pt x="0" y="58620"/>
                </a:lnTo>
                <a:close/>
              </a:path>
              <a:path fill="lightenLess" w="21600" h="58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8620">
                <a:moveTo>
                  <a:pt x="21600" y="0"/>
                </a:moveTo>
                <a:lnTo>
                  <a:pt x="21600" y="58620"/>
                </a:lnTo>
                <a:lnTo>
                  <a:pt x="20200" y="57220"/>
                </a:lnTo>
                <a:lnTo>
                  <a:pt x="20200" y="1400"/>
                </a:lnTo>
                <a:close/>
              </a:path>
              <a:path fill="darkenLess" w="21600" h="58620">
                <a:moveTo>
                  <a:pt x="21600" y="58620"/>
                </a:moveTo>
                <a:lnTo>
                  <a:pt x="0" y="58620"/>
                </a:lnTo>
                <a:lnTo>
                  <a:pt x="1400" y="57220"/>
                </a:lnTo>
                <a:lnTo>
                  <a:pt x="20200" y="57220"/>
                </a:lnTo>
                <a:close/>
              </a:path>
              <a:path fill="lighten" w="21600" h="58620">
                <a:moveTo>
                  <a:pt x="0" y="58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572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bu_sim7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34146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4419720" y="3429000"/>
            <a:ext cx="533160" cy="13716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371600"/>
              <a:gd name="textAreaBottom" fmla="*/ 1337040 h 1371600"/>
            </a:gdLst>
            <a:ahLst/>
            <a:rect l="textAreaLeft" t="textAreaTop" r="textAreaRight" b="textAreaBottom"/>
            <a:pathLst>
              <a:path w="21600" h="55545">
                <a:moveTo>
                  <a:pt x="0" y="0"/>
                </a:moveTo>
                <a:lnTo>
                  <a:pt x="21600" y="0"/>
                </a:lnTo>
                <a:lnTo>
                  <a:pt x="21600" y="55545"/>
                </a:lnTo>
                <a:lnTo>
                  <a:pt x="0" y="55545"/>
                </a:lnTo>
                <a:close/>
              </a:path>
              <a:path fill="lightenLess" w="21600" h="555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5545">
                <a:moveTo>
                  <a:pt x="21600" y="0"/>
                </a:moveTo>
                <a:lnTo>
                  <a:pt x="21600" y="55545"/>
                </a:lnTo>
                <a:lnTo>
                  <a:pt x="20200" y="54145"/>
                </a:lnTo>
                <a:lnTo>
                  <a:pt x="20200" y="1400"/>
                </a:lnTo>
                <a:close/>
              </a:path>
              <a:path fill="darkenLess" w="21600" h="55545">
                <a:moveTo>
                  <a:pt x="21600" y="55545"/>
                </a:moveTo>
                <a:lnTo>
                  <a:pt x="0" y="55545"/>
                </a:lnTo>
                <a:lnTo>
                  <a:pt x="1400" y="54145"/>
                </a:lnTo>
                <a:lnTo>
                  <a:pt x="20200" y="54145"/>
                </a:lnTo>
                <a:close/>
              </a:path>
              <a:path fill="lighten" w="21600" h="55545">
                <a:moveTo>
                  <a:pt x="0" y="55545"/>
                </a:moveTo>
                <a:lnTo>
                  <a:pt x="0" y="0"/>
                </a:lnTo>
                <a:lnTo>
                  <a:pt x="1400" y="1400"/>
                </a:lnTo>
                <a:lnTo>
                  <a:pt x="1400" y="5414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1693800"/>
            <a:ext cx="70866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ever, the Yangtze River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lood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ery year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using great loss of lives and millions of dollar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 Therefore the government decided to build the dam to control the wa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BS00559_" descr=""/>
          <p:cNvPicPr/>
          <p:nvPr/>
        </p:nvPicPr>
        <p:blipFill>
          <a:blip r:embed="rId1"/>
          <a:stretch/>
        </p:blipFill>
        <p:spPr>
          <a:xfrm>
            <a:off x="5334120" y="4800600"/>
            <a:ext cx="2438280" cy="609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296720" y="8380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1905120"/>
            <a:ext cx="601956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Three Gorges will be the biggest dam in the world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dam will be about 6,860 feet wide and 611 feet high. It i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viou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such a big project will do much goo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30240" y="103500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BS00559_" descr=""/>
          <p:cNvPicPr/>
          <p:nvPr/>
        </p:nvPicPr>
        <p:blipFill>
          <a:blip r:embed="rId1"/>
          <a:stretch/>
        </p:blipFill>
        <p:spPr>
          <a:xfrm>
            <a:off x="6934320" y="4952880"/>
            <a:ext cx="685800" cy="668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36640" y="1523880"/>
            <a:ext cx="588348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important is flood control, and another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urpos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dam is to produce electricity for Eastern and Cent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BS00559_" descr=""/>
          <p:cNvPicPr/>
          <p:nvPr/>
        </p:nvPicPr>
        <p:blipFill>
          <a:blip r:embed="rId1"/>
          <a:stretch/>
        </p:blipFill>
        <p:spPr>
          <a:xfrm>
            <a:off x="5105520" y="5105520"/>
            <a:ext cx="1904760" cy="761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830240" y="8380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30360" y="1447920"/>
            <a:ext cx="685152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ever, some scientists don't agree to the project. They say that many people will b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course will cost much money, and som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storical sit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ll b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5320" y="68580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BS00559_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1447920" cy="99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684800" y="1731960"/>
            <a:ext cx="5589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Three Gorges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uld be considered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t is finished in 2009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  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ighth wonder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worl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BS00559_" descr=""/>
          <p:cNvPicPr/>
          <p:nvPr/>
        </p:nvPicPr>
        <p:blipFill>
          <a:blip r:embed="rId1"/>
          <a:stretch/>
        </p:blipFill>
        <p:spPr>
          <a:xfrm>
            <a:off x="5181480" y="4691160"/>
            <a:ext cx="1905120" cy="10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601640" y="9586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0880" y="914400"/>
            <a:ext cx="84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057400" y="1523880"/>
          <a:ext cx="4876920" cy="4572000"/>
        </p:xfrm>
        <a:graphic>
          <a:graphicData uri="http://schemas.openxmlformats.org/drawingml/2006/table">
            <a:tbl>
              <a:tblPr/>
              <a:tblGrid>
                <a:gridCol w="2297160"/>
                <a:gridCol w="25797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xia D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4572360" y="213372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ig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43040" y="2819520"/>
            <a:ext cx="25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Yangtze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720" y="35053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imes New Roman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411480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6760" y="472428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5320" y="5486400"/>
            <a:ext cx="17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Remov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57400" y="7300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Fill in the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676520" y="1665360"/>
          <a:ext cx="6019560" cy="4430520"/>
        </p:xfrm>
        <a:graphic>
          <a:graphicData uri="http://schemas.openxmlformats.org/drawingml/2006/table">
            <a:tbl>
              <a:tblPr/>
              <a:tblGrid>
                <a:gridCol w="2041560"/>
                <a:gridCol w="1920600"/>
                <a:gridCol w="2057400"/>
              </a:tblGrid>
              <a:tr h="87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xia D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wan D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ig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angtz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lood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lectric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moval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5889240" y="253368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92400" y="311292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N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68000" y="37987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imes New Roman"/>
              </a:rPr>
              <a:t>19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440856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6080" y="501804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1320" y="547524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Remo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7300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Fill in the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ilar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3520" y="25909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re are some similarities between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ilariti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76160" y="22096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o begin with, both of them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very big. The Aswan High Dam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biggest at present, and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ree Gorges Dam will b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iggest in 2009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ilar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240" y="2285640"/>
            <a:ext cx="6629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econdly, the reasons for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two dams are the same, that is,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prevent flood and produce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bu_sim8" descr=""/>
          <p:cNvPicPr/>
          <p:nvPr/>
        </p:nvPicPr>
        <p:blipFill>
          <a:blip r:embed="rId1"/>
          <a:stretch/>
        </p:blipFill>
        <p:spPr>
          <a:xfrm>
            <a:off x="1447920" y="97164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ilar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6172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inally, the problems of building the two dams are almost the same. Both of the two projects need to move people and some historical s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52120" y="2743200"/>
            <a:ext cx="5867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re are also some differences between the two d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52480" y="2438280"/>
            <a:ext cx="5639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irst, the Aswan High Dam lies on the River Nile, while the Three Gorges Dam is on the Yangtze Ri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Differenc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52120" y="24382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econdly, the Aswan High Dam was finished in 1970, while the Three Gorges Dam will be completed in 200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28600" y="152388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2860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P 92,  E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BS00554_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1904760" cy="17175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298160" y="1116000"/>
            <a:ext cx="26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3000" y="3048120"/>
            <a:ext cx="693432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rite a passag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mpare the Three Gor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am with Aswan High D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BU-R2" descr=""/>
          <p:cNvPicPr/>
          <p:nvPr/>
        </p:nvPicPr>
        <p:blipFill>
          <a:blip r:embed="rId1"/>
          <a:stretch/>
        </p:blipFill>
        <p:spPr>
          <a:xfrm>
            <a:off x="1143000" y="750960"/>
            <a:ext cx="70246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film ab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15238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4771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7:04:02Z</dcterms:created>
  <dc:creator>GuoMei</dc:creator>
  <dc:description/>
  <dc:language>en-US</dc:language>
  <cp:lastModifiedBy>Zhang Lingdi</cp:lastModifiedBy>
  <dcterms:modified xsi:type="dcterms:W3CDTF">2003-06-10T09:25:04Z</dcterms:modified>
  <cp:revision>501</cp:revision>
  <dc:subject/>
  <dc:title>PowerPoint 演示文稿</dc:title>
</cp:coreProperties>
</file>